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3CF-D488-4EBC-A7D9-3C6C06E9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BC0-9DD9-461B-A608-A68CB704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4E7-1AD4-4918-8D75-0311464B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A50-EE38-4C00-AFA8-145A6361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F97-4352-479F-8C3E-DA85096C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636-464F-4449-9173-DE253E4F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1C7-865A-4291-87C7-51AD2138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9B6-D460-4181-B040-48030024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CFA-EE1E-4CFA-8A0D-CF42DAC6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576-ED1E-412D-A77B-B50BD55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2CB-43F4-4A45-8318-0CDA757C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0BB-C16D-4FF8-958D-438F8F9B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64CB-E586-457A-B54C-E8F429E8C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399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09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7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6440" y="2751120"/>
            <a:ext cx="69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5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5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5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79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3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88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1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5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0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95320" y="493236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LBRZYMI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09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3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0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3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27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17960" y="34336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2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87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2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1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0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4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3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2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0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0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18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47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48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4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5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3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aczej mówiąc 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napięcia lub prądy, których zmiany mogą następ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133720" y="2279520"/>
          <a:ext cx="41148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79520"/>
                    <a:ext cx="41148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1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1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92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93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93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95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95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96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97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97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99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99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1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02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039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047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090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098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104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107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112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118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17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18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19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44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60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264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18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21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34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353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357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380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387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391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427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431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439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442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447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451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457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263196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ądu zmien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43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du stał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0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483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511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557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572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6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const. jeśli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33720" y="1066680"/>
            <a:ext cx="4800600" cy="3771360"/>
            <a:chOff x="2133720" y="1066680"/>
            <a:chExt cx="4800600" cy="3771360"/>
          </a:xfrm>
        </p:grpSpPr>
        <p:sp>
          <p:nvSpPr>
            <p:cNvPr id="95" name=""/>
            <p:cNvSpPr/>
            <p:nvPr/>
          </p:nvSpPr>
          <p:spPr>
            <a:xfrm>
              <a:off x="65674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446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91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11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85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2578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619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4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4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5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760" y="2384280"/>
            <a:ext cx="58867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3-12-01T06:29:52Z</dcterms:modified>
  <cp:revision>69</cp:revision>
  <dc:subject/>
  <dc:title>Wzmacniacze prądu stałego</dc:title>
</cp:coreProperties>
</file>